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4DF-C9CC-4073-8D9A-04E45088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6F7-DF8D-4693-B1A0-AF8B2C73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944-2EB3-4628-ADE2-D93A510E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CA8-9C28-464F-87C7-0314AAA0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004-3884-4332-9A55-A6A510F8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0D4-4BB9-4D5F-BC7C-22D99883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15D-3A29-4132-AACB-40802301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916-BDF6-4527-86B1-EDEFF980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7A4-17E9-4790-9D53-39CCA201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18D-5753-45FC-BB7E-8BC5049B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BAD-CEA0-44DE-8DEE-559A8DEA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122-E00D-4665-A7C1-32F03E01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07E2-A098-431E-923F-143201688AF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2.2 Central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0372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the Central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entral purpose is the focus of an informational tex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t’s what the author wants you to lea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Questions  to ask yourself about Central Purpo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main focus of this pa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did the author try to accomplish by writing this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oose the statement that is most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ips for Su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k yourself what the author most wants you to lea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member that a selection may contain many true statements that are not the central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central purpose is likely to be a general statement concerning the entir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2:46:43Z</dcterms:created>
  <dc:creator>Jason</dc:creator>
  <dc:description/>
  <dc:language>en-US</dc:language>
  <cp:lastModifiedBy>Jason</cp:lastModifiedBy>
  <dcterms:modified xsi:type="dcterms:W3CDTF">2011-03-23T12:07:39Z</dcterms:modified>
  <cp:revision>1</cp:revision>
  <dc:subject/>
  <dc:title>2.2 Central Purpose</dc:title>
</cp:coreProperties>
</file>